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7458-DF74-4D44-AD1B-B0E52244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FB26-89C9-48AB-AD9B-CDB6677B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9E1-A870-45D1-B8F5-D75A28F7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DC42-C941-4F4A-91F3-458A5A24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ECDC-B718-425F-97C3-2A742358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34FC-B952-4544-B4E4-4707A64D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A7EC-87C4-45AB-901F-3F3F57F3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1221-3DC9-41FA-96A1-BDA22F70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ADA9-1F35-49AC-8394-6D3FC113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2089-A04F-46C2-9893-08FBD2ED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7EBD-3DD7-4D05-9D58-FBB3838F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14B6-2E23-4E87-821B-E95C0D2D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407B-C62D-43E4-BA31-22D73D45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C851-FD38-4613-8291-B611ADFC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031E-4298-4029-9F84-5F120C4A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DD0E-EE44-493B-B487-EF50183E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8791-770A-4A1B-85CD-9DD4E30A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97C5-5655-4163-81A8-0808F526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D05D-4BC8-4D65-A3E6-2BF01000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2A83-A7C7-46A5-804A-12F1FA7C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1748-EAC2-4A48-9886-292C8C48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CE70-3572-4B93-A707-F1845F6F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3E47-D8AF-4468-A4AD-DECD1CC0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311B-938A-4DAA-849A-5FC4A99E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4e4e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6464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6A59-DCF2-46AD-903A-A7595ADF52A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46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6464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0E9B-F31E-4AFB-9CB6-D8CC03EE97B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dc4d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4d4ce"/>
                </a:solidFill>
                <a:latin typeface="Tahoma"/>
              </a:rPr>
              <a:t>Interactions among teachers, curriculum and classrooms</a:t>
            </a:r>
            <a:endParaRPr b="0" lang="en-US" sz="48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hama Ev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xCITE conferenc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ovember 200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4d4ce"/>
                </a:solidFill>
                <a:latin typeface="Tahoma"/>
              </a:rPr>
              <a:t>Proof ideas in the written lesson</a:t>
            </a:r>
            <a:endParaRPr b="0" lang="en-US" sz="36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spcAft>
                <a:spcPts val="601"/>
              </a:spcAft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dea 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ubstitution that results in different values proves that two expressions are not equivalent (a specific case of refutation by counter example as mathematically valid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spcAft>
                <a:spcPts val="601"/>
              </a:spcAft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dea 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ubstitution cannot be used to prove that two given algebraic expressions are equivalent (a specific case of supportive examples for a universal statement as mathematically invalid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spcAft>
                <a:spcPts val="601"/>
              </a:spcAft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dea 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ddresses the problem that emerged from idea 2: The use of properties of real numbers (e.g., the commutative and the distributive properties) in the manipulative processes is a mathematically valid method for proving that two expressions are equival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4d4ce"/>
                </a:solidFill>
                <a:latin typeface="Tahoma"/>
              </a:rPr>
              <a:t>Proof ideas in the written lesson (cont.)</a:t>
            </a:r>
            <a:endParaRPr b="0" lang="en-US" sz="36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spcAft>
                <a:spcPts val="601"/>
              </a:spcAft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dea 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ustifies Idea 2: There may exist a number, which was not substituted yet, but its substitution in the two given expressions would result in different values, thus showing non-equivalenc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spcAft>
                <a:spcPts val="601"/>
              </a:spcAft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dea 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ustifies Idea 3: The use of properties of real numbers in the manipulative processes guarantees that any substitution in two expressions would result in the same value, thus showing equivalenc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spcAft>
                <a:spcPts val="601"/>
              </a:spcAft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dea 6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the underpinning for ideas 1, 2, and 3, as well as, for ideas 4 and 5. It is the definition of equivalent algebraic expressions: Two algebraic expressions are equivalent if the substitution of any number in the two expressions results in the same valu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280" y="152280"/>
          <a:ext cx="8839440" cy="6553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4d4ce"/>
                </a:solidFill>
                <a:latin typeface="Tahoma"/>
              </a:rPr>
              <a:t>Conceptual and methodological problems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What conceptual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frameworks and research methods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will enable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parison of 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ys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eachers structure and handle the mathematical content of lesso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hematics that is available to learn in the lesson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4d4ce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ay one analyze the nature of algebraic meaning of the transformational activities made available to learn in the lesso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6:49:53Z</dcterms:created>
  <dc:creator>Ruhama</dc:creator>
  <dc:description/>
  <dc:language>en-US</dc:language>
  <cp:lastModifiedBy>Ruhama Even</cp:lastModifiedBy>
  <dcterms:modified xsi:type="dcterms:W3CDTF">2008-11-20T13:06:11Z</dcterms:modified>
  <cp:revision>8</cp:revision>
  <dc:subject/>
  <dc:title>Interactions among teachers, curriculum and classrooms</dc:title>
</cp:coreProperties>
</file>